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D4E9-D041-4CFC-9715-4B0B8CB92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72D0-B3B7-4342-A81A-48F74E78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348A-6C20-4102-9DB4-E367DA227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B6CE-A739-4DFA-828D-DF170FCC9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ED8D-ED13-443A-84AE-5D5F98488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41D8-5B55-4ED4-89CC-441A83D1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F163-5742-4E1D-B512-28E20C6B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2C2A-318B-485F-9F31-6B628289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F8F9-1514-44AB-B5C9-24D33F9D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6958-709D-4DE2-8471-21DACE57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06B7-73B2-4FA1-AF6E-92773605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8B0C-7A4A-47C3-866E-F72CFFF7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4169-F2CB-415E-B7C7-6EB0EC52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1C1C-B10F-46BC-853C-94347A62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D19A-ACAE-467C-819E-605932D7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8D17-D726-47E9-BF79-7D678DD36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DE83-7C5D-46EF-BB8F-F7F6CF3E2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080A-2F50-4B35-A14A-ADE24970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3649-D476-4641-AAC4-673CF043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729D-DD73-4E9C-BEFD-33EE7BD2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BC2A-ACE6-4A31-9E58-98294A85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A5FE-8CCF-4712-BB37-8ADC4EEA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A2AE-13CD-4268-9A01-D750F086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1EEE-6FB9-4066-9339-10E19B34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91EA-D4F2-49C6-8893-64A8A295650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6265-5FBB-44F9-B594-946EB4CC7F4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hyperlink" Target="http://www.center-escape.org/images/alcohol_reasons_4.jpg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3"/>
          <p:cNvSpPr txBox="1"/>
          <p:nvPr/>
        </p:nvSpPr>
        <p:spPr>
          <a:xfrm>
            <a:off x="179280" y="0"/>
            <a:ext cx="878544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ButtonPour">
              <a:avLst>
                <a:gd name="adj1" fmla="val 10800005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ерегит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доровь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324000" y="981000"/>
            <a:ext cx="403848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539640" y="1197000"/>
            <a:ext cx="40388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Что необходимо знать о ВИЧ/СПИДе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Tahoma"/>
              </a:rPr>
              <a:t>Многие люди думают, что ВИЧ и СПИД — это одно и то же. Это не та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ahoma"/>
              </a:rPr>
              <a:t>В чем отличия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4419720" y="762120"/>
            <a:ext cx="4343400" cy="31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ру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мунодефицит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Ч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ловека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1981080" y="6858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В И Ч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4952880" y="3200400"/>
            <a:ext cx="397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вирус, который передаётся от человека к человеку различными путями и вызывает нарушение функций или разрушение иммунной системы организма человека.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l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75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25"/>
                            </p:stCondLst>
                            <p:childTnLst>
                              <p:par>
                                <p:cTn id="20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725"/>
                            </p:stCondLst>
                            <p:childTnLst>
                              <p:par>
                                <p:cTn id="20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4375080" y="957240"/>
            <a:ext cx="4464000" cy="43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- это</a:t>
            </a: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bd71"/>
                </a:solidFill>
                <a:latin typeface="Arial"/>
              </a:rPr>
              <a:t>С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индро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bd71"/>
                </a:solidFill>
                <a:latin typeface="Arial"/>
              </a:rPr>
              <a:t>П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риобретённог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bd71"/>
                </a:solidFill>
                <a:latin typeface="Arial"/>
              </a:rPr>
              <a:t>И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ммунног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bd71"/>
                </a:solidFill>
                <a:latin typeface="Arial"/>
              </a:rPr>
              <a:t>Д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ефицита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Это вирус в организме человека, последняя стадия ВИЧ-инфек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2209680" y="82224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СПИ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75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1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4356000" y="549360"/>
            <a:ext cx="4176720" cy="64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при введении наркотиков в вену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при переливании крови; во время трансплантации орган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при использовании нестерильных инструмент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при незащищенных сексуальных контактах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от больной СПИДом матери к ребенку во время беременности, родов или в период кормления грудью.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cc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cc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При прямом попадании крови через ранки, язвочки, слизистые оболоч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28036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к происходит заражение ВИЧ?</a:t>
            </a:r>
            <a:br>
              <a:rPr sz="3600"/>
            </a:b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3000600" y="1843920"/>
            <a:ext cx="43272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0" rIns="216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3144960" y="2332080"/>
          <a:ext cx="1571400" cy="2560680"/>
        </p:xfrm>
        <a:graphic>
          <a:graphicData uri="http://schemas.openxmlformats.org/drawingml/2006/table">
            <a:tbl>
              <a:tblPr/>
              <a:tblGrid>
                <a:gridCol w="1571400"/>
              </a:tblGrid>
              <a:tr h="2163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ru-RU" sz="1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                                     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Rectangle 12"/>
          <p:cNvSpPr/>
          <p:nvPr/>
        </p:nvSpPr>
        <p:spPr>
          <a:xfrm>
            <a:off x="3223440" y="4891680"/>
            <a:ext cx="211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Rectangle 14"/>
          <p:cNvSpPr/>
          <p:nvPr/>
        </p:nvSpPr>
        <p:spPr>
          <a:xfrm>
            <a:off x="324000" y="4437000"/>
            <a:ext cx="3600360" cy="22320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ирус передается тольк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через определённы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жидкост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рганизма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 именно: кровь, сперму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лагалищные выделения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рудное молок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Object 2"/>
          <p:cNvGraphicFramePr/>
          <p:nvPr/>
        </p:nvGraphicFramePr>
        <p:xfrm>
          <a:off x="324000" y="189000"/>
          <a:ext cx="3384360" cy="36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9000"/>
                    <a:ext cx="3384360" cy="36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4"/>
          <p:cNvGraphicFramePr/>
          <p:nvPr/>
        </p:nvGraphicFramePr>
        <p:xfrm>
          <a:off x="5364000" y="3573360"/>
          <a:ext cx="322560" cy="4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3573360"/>
                    <a:ext cx="322560" cy="4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Text Box 5"/>
          <p:cNvSpPr/>
          <p:nvPr/>
        </p:nvSpPr>
        <p:spPr>
          <a:xfrm>
            <a:off x="5943600" y="56070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облемы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4859280" y="3933720"/>
            <a:ext cx="176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Шприц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032080" y="4567320"/>
            <a:ext cx="24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е реши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230080" y="5149800"/>
            <a:ext cx="124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тво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250920" y="3860640"/>
            <a:ext cx="360036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сновной фактор риска заражения ВИЧ в нашей стране –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нутривенное введение наркотических препарат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ркоманы на сегодняшний день составляю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бсолютное большинство все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нфицированных в нашей стран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3564000" y="1197000"/>
            <a:ext cx="536400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рукопожатии или объятия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рез пот или слез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кашле и чихан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рез животных или при укусах насекомы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поцелуе/через слюну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 всю историю изучения ВИЧ/СПИДа не было зафиксировано ни одного случая заражения этим способом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826920" y="47628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Вирус не передается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l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75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29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Ты и так всё знаешь о чём здесь тебе рассказали?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3588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4000" spc="-1" strike="noStrike">
                <a:solidFill>
                  <a:srgbClr val="ff0000"/>
                </a:solidFill>
                <a:latin typeface="Tahoma"/>
              </a:rPr>
              <a:t>Просто знать – недостаточно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2771280" y="5084280"/>
            <a:ext cx="6048360" cy="15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</a:rPr>
              <a:t>Нужно правильно действовать в определённой ситуации.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5" name="Picture 7" descr="плакат наркотики"/>
          <p:cNvPicPr/>
          <p:nvPr/>
        </p:nvPicPr>
        <p:blipFill>
          <a:blip r:embed="rId1"/>
          <a:stretch/>
        </p:blipFill>
        <p:spPr>
          <a:xfrm>
            <a:off x="6012000" y="2708280"/>
            <a:ext cx="280800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051160" y="1341360"/>
            <a:ext cx="36241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45a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b45a00"/>
                </a:solidFill>
                <a:latin typeface="Tahoma"/>
              </a:rPr>
              <a:t>приём алкоголя    или других наркотик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5076720" y="4292640"/>
            <a:ext cx="39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8241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241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824100"/>
                </a:solidFill>
                <a:latin typeface="Arial"/>
              </a:rPr>
              <a:t>пропуски занят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5105520" y="4869000"/>
            <a:ext cx="367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8241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241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824100"/>
                </a:solidFill>
                <a:latin typeface="Arial"/>
              </a:rPr>
              <a:t>поступки, которые могут огорчить  ваших родител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5292720" y="2997360"/>
            <a:ext cx="359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8241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241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24100"/>
                </a:solidFill>
                <a:latin typeface="Arial"/>
              </a:rPr>
              <a:t>беспорядочные половые связ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5148360" y="378936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8241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241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824100"/>
                </a:solidFill>
                <a:latin typeface="Arial"/>
              </a:rPr>
              <a:t>краж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31" name="Group 8"/>
          <p:cNvGrpSpPr/>
          <p:nvPr/>
        </p:nvGrpSpPr>
        <p:grpSpPr>
          <a:xfrm>
            <a:off x="5130000" y="2502360"/>
            <a:ext cx="3414600" cy="3324240"/>
            <a:chOff x="5130000" y="2502360"/>
            <a:chExt cx="3414600" cy="3324240"/>
          </a:xfrm>
        </p:grpSpPr>
        <p:sp>
          <p:nvSpPr>
            <p:cNvPr id="232" name="Text Box 9"/>
            <p:cNvSpPr/>
            <p:nvPr/>
          </p:nvSpPr>
          <p:spPr>
            <a:xfrm rot="2513400">
              <a:off x="6314400" y="3674880"/>
              <a:ext cx="15861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600" spc="-1" strike="noStrike">
                  <a:solidFill>
                    <a:srgbClr val="e30510"/>
                  </a:solidFill>
                  <a:latin typeface="Arial Black"/>
                </a:rPr>
                <a:t>Е</a:t>
              </a:r>
              <a:endParaRPr b="0" lang="en-US" sz="9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3" name="Text Box 10"/>
            <p:cNvSpPr/>
            <p:nvPr/>
          </p:nvSpPr>
          <p:spPr>
            <a:xfrm rot="2481600">
              <a:off x="5508720" y="2666160"/>
              <a:ext cx="1084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600" spc="-1" strike="noStrike">
                  <a:solidFill>
                    <a:srgbClr val="e30510"/>
                  </a:solidFill>
                  <a:latin typeface="Arial Black"/>
                </a:rPr>
                <a:t>Н</a:t>
              </a:r>
              <a:endParaRPr b="0" lang="en-US" sz="9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Text Box 11"/>
            <p:cNvSpPr/>
            <p:nvPr/>
          </p:nvSpPr>
          <p:spPr>
            <a:xfrm rot="2445000">
              <a:off x="7281360" y="4177800"/>
              <a:ext cx="858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600" spc="-1" strike="noStrike">
                  <a:solidFill>
                    <a:srgbClr val="e30510"/>
                  </a:solidFill>
                  <a:latin typeface="Arial Black"/>
                </a:rPr>
                <a:t>Т</a:t>
              </a:r>
              <a:endParaRPr b="0" lang="en-US" sz="9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90320" y="-360"/>
            <a:ext cx="8653320" cy="16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Умей сказать</a:t>
            </a: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cc3300"/>
                </a:solidFill>
                <a:latin typeface="Arial Black"/>
              </a:rPr>
              <a:t>нет</a:t>
            </a: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в некоторых специфических ситуациях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36" name="Picture 5" descr="120040713204739_1-narkotiki[1]"/>
          <p:cNvPicPr/>
          <p:nvPr/>
        </p:nvPicPr>
        <p:blipFill>
          <a:blip r:embed="rId1"/>
          <a:stretch/>
        </p:blipFill>
        <p:spPr>
          <a:xfrm>
            <a:off x="250920" y="1916280"/>
            <a:ext cx="4321080" cy="44654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3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336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341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346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351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356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361" nodeType="afterEffect" fill="hold" presetClass="entr" presetID="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1900"/>
                            </p:stCondLst>
                            <p:childTnLst>
                              <p:par>
                                <p:cTn id="3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ГЛАЗ"/>
          <p:cNvPicPr/>
          <p:nvPr/>
        </p:nvPicPr>
        <p:blipFill>
          <a:blip r:embed="rId1"/>
          <a:stretch/>
        </p:blipFill>
        <p:spPr>
          <a:xfrm>
            <a:off x="611280" y="2421000"/>
            <a:ext cx="2133360" cy="18000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3"/>
          <p:cNvSpPr/>
          <p:nvPr/>
        </p:nvSpPr>
        <p:spPr>
          <a:xfrm>
            <a:off x="3276720" y="1916280"/>
            <a:ext cx="51829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 Black"/>
              </a:rPr>
              <a:t>Помните:</a:t>
            </a:r>
            <a:r>
              <a:rPr b="0" lang="ru-RU" sz="4800" spc="-1" strike="noStrike">
                <a:solidFill>
                  <a:srgbClr val="ffffff"/>
                </a:solidFill>
                <a:latin typeface="Arial Black"/>
              </a:rPr>
              <a:t> это </a:t>
            </a:r>
            <a:r>
              <a:rPr b="0" lang="ru-RU" sz="4800" spc="-1" strike="noStrike">
                <a:solidFill>
                  <a:srgbClr val="ff0000"/>
                </a:solidFill>
                <a:latin typeface="Arial Black"/>
              </a:rPr>
              <a:t>ваше тело </a:t>
            </a:r>
            <a:r>
              <a:rPr b="0" lang="ru-RU" sz="4800" spc="-1" strike="noStrike">
                <a:solidFill>
                  <a:srgbClr val="ffffff"/>
                </a:solidFill>
                <a:latin typeface="Arial Black"/>
              </a:rPr>
              <a:t>- </a:t>
            </a:r>
            <a:r>
              <a:rPr b="0" lang="ru-RU" sz="4800" spc="-1" strike="noStrike">
                <a:solidFill>
                  <a:srgbClr val="ffffff"/>
                </a:solidFill>
                <a:latin typeface="Arial Black"/>
              </a:rPr>
              <a:t>и </a:t>
            </a:r>
            <a:r>
              <a:rPr b="0" lang="ru-RU" sz="4800" spc="-1" strike="noStrike">
                <a:solidFill>
                  <a:srgbClr val="ff0000"/>
                </a:solidFill>
                <a:latin typeface="Arial Black"/>
              </a:rPr>
              <a:t>ваш выбор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4" descr="799800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2"/>
          <p:cNvSpPr txBox="1"/>
          <p:nvPr/>
        </p:nvSpPr>
        <p:spPr>
          <a:xfrm>
            <a:off x="990720" y="762120"/>
            <a:ext cx="3657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доровье -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4643280" y="1989000"/>
            <a:ext cx="3810240" cy="4848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ffff66"/>
                </a:solidFill>
                <a:latin typeface="Comic Sans MS"/>
              </a:rPr>
              <a:t>При этом есть болезни, которые зависят только от нашего поведения и образа жизни. Именно об этих заболеваниях, которыми, к огромному сожалению, болеет большое количество молодёжи мы поговори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4648320" y="1019160"/>
            <a:ext cx="4267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6600"/>
                </a:solidFill>
                <a:latin typeface="Arial Black"/>
              </a:rPr>
              <a:t>это</a:t>
            </a:r>
            <a:r>
              <a:rPr b="1" lang="ru-RU" sz="2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1" lang="ru-RU" sz="2600" spc="-1" strike="noStrike">
                <a:solidFill>
                  <a:srgbClr val="cc6600"/>
                </a:solidFill>
                <a:latin typeface="Arial Black"/>
              </a:rPr>
              <a:t>отсутствие болезне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8" descr="j0178531"/>
          <p:cNvPicPr/>
          <p:nvPr/>
        </p:nvPicPr>
        <p:blipFill>
          <a:blip r:embed="rId3"/>
          <a:stretch/>
        </p:blipFill>
        <p:spPr>
          <a:xfrm>
            <a:off x="395280" y="1844640"/>
            <a:ext cx="3672000" cy="2376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j0178525"/>
          <p:cNvPicPr/>
          <p:nvPr/>
        </p:nvPicPr>
        <p:blipFill>
          <a:blip r:embed="rId4"/>
          <a:stretch/>
        </p:blipFill>
        <p:spPr>
          <a:xfrm>
            <a:off x="395280" y="4365720"/>
            <a:ext cx="3657600" cy="24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" descr="стрелка 1"/>
          <p:cNvPicPr/>
          <p:nvPr/>
        </p:nvPicPr>
        <p:blipFill>
          <a:blip r:embed="rId1"/>
          <a:stretch/>
        </p:blipFill>
        <p:spPr>
          <a:xfrm>
            <a:off x="611280" y="3284640"/>
            <a:ext cx="2361960" cy="1697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стрелка 2"/>
          <p:cNvPicPr/>
          <p:nvPr/>
        </p:nvPicPr>
        <p:blipFill>
          <a:blip r:embed="rId2"/>
          <a:stretch/>
        </p:blipFill>
        <p:spPr>
          <a:xfrm>
            <a:off x="6443640" y="3357720"/>
            <a:ext cx="2286000" cy="16747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00"/>
                </a:solidFill>
                <a:latin typeface="Arial"/>
              </a:rPr>
              <a:t>Задумайтесь о последствиях!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3" name="Picture 6" descr="9c55340cf8f6b2a05d855586fea67bfc_80_kurenie-1"/>
          <p:cNvPicPr/>
          <p:nvPr/>
        </p:nvPicPr>
        <p:blipFill>
          <a:blip r:embed="rId3"/>
          <a:stretch/>
        </p:blipFill>
        <p:spPr>
          <a:xfrm>
            <a:off x="3059280" y="2133720"/>
            <a:ext cx="3097080" cy="3527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492000" y="27756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КУРЕНИЕ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5" name="Picture 3" descr="аленка"/>
          <p:cNvPicPr/>
          <p:nvPr/>
        </p:nvPicPr>
        <p:blipFill>
          <a:blip r:embed="rId1"/>
          <a:stretch/>
        </p:blipFill>
        <p:spPr>
          <a:xfrm>
            <a:off x="2771640" y="1628640"/>
            <a:ext cx="1733760" cy="21877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йствие никотина особенно опасно в определенные периоды жизни - юность, старческий возраст, когда даже слабое возбуждающее действие нарушает нервную регуляцию. Особенно вреден никотин беременным, так как приводит к рождению слабых, с низким весом детей, и кормящим женщинам, так как повышает заболеваемость и смертность детей в первые годы жизни. Большинство же курильщиков удивительно бесцеремонны по отношению к окружающи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5" descr="no_smoking_j2"/>
          <p:cNvPicPr/>
          <p:nvPr/>
        </p:nvPicPr>
        <p:blipFill>
          <a:blip r:embed="rId2"/>
          <a:stretch/>
        </p:blipFill>
        <p:spPr>
          <a:xfrm>
            <a:off x="324000" y="3933720"/>
            <a:ext cx="2736720" cy="230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вонючие бычки "/>
          <p:cNvPicPr/>
          <p:nvPr/>
        </p:nvPicPr>
        <p:blipFill>
          <a:blip r:embed="rId3"/>
          <a:stretch/>
        </p:blipFill>
        <p:spPr>
          <a:xfrm>
            <a:off x="179280" y="189000"/>
            <a:ext cx="2438640" cy="183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0" name="Picture 3" descr="пьяница"/>
          <p:cNvPicPr/>
          <p:nvPr/>
        </p:nvPicPr>
        <p:blipFill>
          <a:blip r:embed="rId1"/>
          <a:stretch/>
        </p:blipFill>
        <p:spPr>
          <a:xfrm>
            <a:off x="457200" y="1619280"/>
            <a:ext cx="4038480" cy="21495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5018040" y="993600"/>
            <a:ext cx="374508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- это наркотик,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химическое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ещество,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оторое влияет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а то, как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функционирует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рганизм.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1295280" y="9144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АЛКОГОЛ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7" descr="60c473449a9492364b5cb066d44da1d1"/>
          <p:cNvPicPr/>
          <p:nvPr/>
        </p:nvPicPr>
        <p:blipFill>
          <a:blip r:embed="rId2"/>
          <a:stretch/>
        </p:blipFill>
        <p:spPr>
          <a:xfrm>
            <a:off x="1116000" y="3860640"/>
            <a:ext cx="2519280" cy="27306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75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7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3"/>
          <p:cNvSpPr/>
          <p:nvPr/>
        </p:nvSpPr>
        <p:spPr>
          <a:xfrm rot="210600">
            <a:off x="1116000" y="691920"/>
            <a:ext cx="7632720" cy="19843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Пристрастие к алкоголю вызывает сильную деградацию личности и такие заболевания как рак пищевода или желудка, цирроз печени. Человек, пристрастившийся к алкоголю, старается заглушить страх и уменьшить стресс. Алкоголики стараются изменить свое сознание, достичь «высшего чувства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5" descr="j0282749"/>
          <p:cNvPicPr/>
          <p:nvPr/>
        </p:nvPicPr>
        <p:blipFill>
          <a:blip r:embed="rId1"/>
          <a:stretch/>
        </p:blipFill>
        <p:spPr>
          <a:xfrm>
            <a:off x="2627280" y="3068640"/>
            <a:ext cx="417672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alcoholicreasons_2"/>
          <p:cNvPicPr/>
          <p:nvPr/>
        </p:nvPicPr>
        <p:blipFill>
          <a:blip r:embed="rId1"/>
          <a:stretch/>
        </p:blipFill>
        <p:spPr>
          <a:xfrm>
            <a:off x="7651800" y="5718240"/>
            <a:ext cx="1492200" cy="1139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alcohol_reasons"/>
          <p:cNvPicPr/>
          <p:nvPr/>
        </p:nvPicPr>
        <p:blipFill>
          <a:blip r:embed="rId2"/>
          <a:stretch/>
        </p:blipFill>
        <p:spPr>
          <a:xfrm>
            <a:off x="7020000" y="69228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alcoholic_reasons_3"/>
          <p:cNvPicPr/>
          <p:nvPr/>
        </p:nvPicPr>
        <p:blipFill>
          <a:blip r:embed="rId3"/>
          <a:stretch/>
        </p:blipFill>
        <p:spPr>
          <a:xfrm>
            <a:off x="395280" y="4221000"/>
            <a:ext cx="1582920" cy="21448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alcohol_reasons_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476280"/>
            <a:ext cx="2300400" cy="32734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6"/>
          <p:cNvSpPr/>
          <p:nvPr/>
        </p:nvSpPr>
        <p:spPr>
          <a:xfrm>
            <a:off x="2210040" y="-30600"/>
            <a:ext cx="656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Глупые причины начать пит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411280" y="1153800"/>
            <a:ext cx="67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Похмелье.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2.Из-за алкоголя ты чувствуешь себя «взрослым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3. Пить, чтобы забыть о проблемах.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4.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Пить, чтобы быть принятым друзьями.</a:t>
            </a: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5.Пить от любопытства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4734000" y="914400"/>
            <a:ext cx="4105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вещество,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торое способно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звать эйфорию,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сихическую или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зическую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висимость,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чинять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ущественный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ред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сихическому и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зическому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доровью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лове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371600" y="7621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Black"/>
              </a:rPr>
              <a:t>НАРКОТИ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9" descr="nelomay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900000" y="1628640"/>
            <a:ext cx="3311640" cy="49690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75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5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55" nodeType="afterEffect" fill="hold" presetClass="entr" presetID="21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3505320" y="2633760"/>
            <a:ext cx="533376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Если употребление наркотиков внутреннее,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то средняя продолжительность жизни с момента первого укола составляет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cc0000"/>
                </a:solidFill>
                <a:latin typeface="Arial"/>
              </a:rPr>
              <a:t>7-10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ет непрерывного потребл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042920" y="260280"/>
            <a:ext cx="769644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Black"/>
              </a:rPr>
              <a:t>Наркомания –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Comic Sans MS"/>
              </a:rPr>
              <a:t>болезнь, которая поражает мозг, оказывает воздействие на эмоции и душу, разрушает социальные связ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684360" y="3981600"/>
            <a:ext cx="237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75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7350"/>
                            </p:stCondLst>
                            <p:childTnLst>
                              <p:par>
                                <p:cTn id="16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8:08:38Z</dcterms:created>
  <dc:creator>Игорь</dc:creator>
  <dc:description/>
  <dc:language>en-US</dc:language>
  <cp:lastModifiedBy>GMR</cp:lastModifiedBy>
  <dcterms:modified xsi:type="dcterms:W3CDTF">2024-12-05T16:53:23Z</dcterms:modified>
  <cp:revision>16</cp:revision>
  <dc:subject/>
  <dc:title>Слайд 1</dc:title>
</cp:coreProperties>
</file>